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A33-1190-484B-A518-5F33E53A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AF74-B134-435B-B7F4-98B3E3BC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50A-0F76-4498-8804-4C2C6F479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26FF-CA73-496E-9534-549A332D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A4009-A083-4F74-A9DA-51D92FC5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4798-B267-4518-AEC5-DCDB0F43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D2B0-38E9-4F7F-A2F8-E1E4A6D8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A5DC-3059-4871-AE77-EB5ACFC2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65EC-F210-4348-95CD-4231F0BF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478E-5C93-445B-A145-67CEE191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F8D6-6CDF-4994-8DA1-AFA5DACB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AD02-0342-422B-93D7-3BFD3907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3BB9-7E30-4110-A564-E3B844B5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E15B-E861-4D4D-B551-07EEF17F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73F3-8B2D-4C2E-B9F6-FDBDE2B5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E453-4AA6-4A71-B671-34B0B842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CFB2-4CDD-415F-A6CC-7C87B4DB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2A9A-C9BB-47CA-A1FF-FB59E62C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E89C-1BB3-4625-BAB8-86669CF8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E40-46B4-4643-820F-062C2AC6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2F7-EE88-4516-9D0D-BDB4AE88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E963-5113-44B6-85ED-ED2320E4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BF0-2993-4061-AB7A-7CFCC5F8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2CD-3D16-4305-9AC5-FD41D1E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1642-C9D9-4F97-9F19-F3E1DDFE385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00D0-536E-40C7-A36D-B6C3C635211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Unequal Comparisons</a:t>
            </a:r>
            <a:endParaRPr b="1" lang="en-US" sz="6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267080" y="29275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Page 22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Avancemos 2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, peor, may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plural forms ending in -es. However, they don’t have a different feminine form: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5410080" y="5638680"/>
            <a:ext cx="266724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Las hermana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de Pedro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nore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que las de Jua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better) is also the comparative form of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bien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well)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peor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(worse) also the comparative form of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al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badly)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hen used in this sense,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pe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only one form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3200400" y="5105520"/>
            <a:ext cx="4495680" cy="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raciela y Fabián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jores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Susana y Gustavo en teni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raciela y Fabián juegan tenis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jor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Susana y Gustavo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You have learned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 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in certain expression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505320" y="4952880"/>
            <a:ext cx="4343400" cy="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 gusta el tenis pero me gusta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el fútbol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¿Te gustan las manzanas? Si,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o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e also use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‘than’) to make comparison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Los discos compactos de Los Toros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 populares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los discos compactos de Los Lobo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Jorge es menos serio que María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adjectives agree with the nouns they refer to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adjectives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bueno, malo, viejo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joven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irregular comparative forms.  We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do not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use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with them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Unequal Comparison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buen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al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viej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jove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3886200" y="281952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492520" y="23623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jor (que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3809880" y="373392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733920" y="4572000"/>
            <a:ext cx="14475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3809880" y="548640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493240" y="3276720"/>
            <a:ext cx="29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eor (que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5264280" y="4114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ayor (que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41320" y="502920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nor (que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0:45Z</dcterms:created>
  <dc:creator>Tom Shirley</dc:creator>
  <dc:description/>
  <dc:language>en-US</dc:language>
  <cp:lastModifiedBy>Suzanne</cp:lastModifiedBy>
  <cp:lastPrinted>2009-04-22T19:24:48Z</cp:lastPrinted>
  <dcterms:modified xsi:type="dcterms:W3CDTF">2009-08-23T23:05:26Z</dcterms:modified>
  <cp:revision>12</cp:revision>
  <dc:subject/>
  <dc:title>PowerPoint Presentation</dc:title>
</cp:coreProperties>
</file>